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DC9-D310-4219-86D2-3701BE43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DCA-6ADE-4F80-AA2C-C29BE7FF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C25-3A44-43D3-BBA4-7A2B85C0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55D-53E5-4FA1-8690-C5FCBAC3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EDFC-F9B6-4E40-82FE-2C48EF9A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8A3C-E6CF-4B65-BEE7-B8A03808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57C4-0ED0-491E-8B09-AF9D5956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A21C-2364-41A2-B6D4-92BC3865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3344-600C-4B98-A67D-0E1C9F13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04FD-00FB-4C5B-BB0C-1157C7AB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AA1F-BB1F-48EF-9F86-4290993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8A5-C2F0-45EA-8F2F-C58A8110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3AF5-A8B8-468C-92A4-0A419097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5E32-0E56-43DA-A706-41D922B2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01E0-3B93-4693-B07D-55ABF29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343A-CD2E-4BF6-85C4-D606E823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E728-824B-431D-820A-85C238DA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C0C-C366-4329-ADE0-86D772F1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365-7564-4664-8FD1-243BCAF4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E06-A906-4AF3-B274-2108A465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060-5251-4F00-93A4-A815A950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162-917C-432E-8959-F8FD336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4CC-CEBA-4F99-83C2-A232E3C3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2A9-0794-43CA-9A3C-DD27A45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6BB6-9399-4374-A8E7-526EC09348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2121-3EC5-42E6-B9CD-3B455985C4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ond Language Acqui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Think Abou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a baby acquiring his/her first langu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a person acquiring a seco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similarities and differences are there in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process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CS ( Basic Interpersonal Communication Skill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to 3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ility to converse and understand every day  discu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P (Cognitive Academic Language Proficienc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o 7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ility to read, write, speak, and listen at an academic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ges in Second Language Acqui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eproduction/Comprehension Stag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lent peri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pond non-verb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able to understand more than they can produ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arly Speech Produc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haracteristics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understand more than can produ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produce one or two words at a tim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pick up phrases (He cutted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make lots of err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language occurs (a mixture of vocabular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tructures from both languages 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peech Emergence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be able to  understand more than they can produ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language continues to occ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nger uttera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reases in err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Fluency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ear orally fl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rrors are same errors native speakers mak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uggle with content area reading and wri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rst Languag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ink Ab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think the child’s first language is a hindrance or a help in terms of learning a second languag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mon Underlying Proficiency/Transferability Theo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skills and concepts are common or interdependent across langu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kill or concept learned in one langua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nsf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another language when the requisite vocabulary is ac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114800" y="985680"/>
            <a:ext cx="1828800" cy="427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209680" y="990720"/>
            <a:ext cx="186696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9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599840" y="3962520"/>
            <a:ext cx="20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457200" y="304920"/>
            <a:ext cx="91440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ational Pro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50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143000"/>
            <a:ext cx="9144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752480"/>
            <a:ext cx="914400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h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133720"/>
            <a:ext cx="91440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733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191120"/>
            <a:ext cx="9144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648320"/>
            <a:ext cx="914400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952880"/>
            <a:ext cx="350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Academic Pro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Literacy Skills Transfe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ion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ility to distinguish shapes and sou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ledge that written symbols correspond to sounds and can be decoded in order and dir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vation of semantic and syntactic 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ledge of tex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rning to use cues to predict mean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wareness of the variety of purposes for reading  and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ce in oneself as a reader and wri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rst and Second Language Acquisi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1 Learn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L2 Learn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tructs language from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prior conceptual knowledg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s an active learner who tes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and revises hypothes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equires interactio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s cognitive strategies(i.e.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overgeneralization)                                             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derstands more when input is modifi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caretaker talk, foreign talk)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develops language in predictable stag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makes developmental error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experiences a silent period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Skills Do Not Transfe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itical and Cultural Litera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terpretation of text given a specific cultural world vie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rom: C. Roberts. (1994). Transferring literacy skills from L1 to L2: From theory to practice. In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Comic Sans MS"/>
              </a:rPr>
              <a:t>The Journal of Educational Issues of Language Minority  Students,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v. p. 209-22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shold Hypo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ingualism has been viewed as a handicap and a cause of cognitive conf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reason for this view is Inter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reason has to do with th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shold Hypo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shold Hypothesi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better developed the L1, the better developed the L2 can b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level of proficiency in L1-high level of proficiency in L2 is 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low level of proficiency in L1-lower level of proficiency in L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ica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do you think the implications of this are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sholds The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914400"/>
            <a:ext cx="3657600" cy="762120"/>
          </a:xfrm>
          <a:prstGeom prst="triangle">
            <a:avLst>
              <a:gd name="adj" fmla="val 50000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1676520"/>
            <a:ext cx="3657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200400"/>
            <a:ext cx="3657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4572000"/>
            <a:ext cx="3657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1905120"/>
            <a:ext cx="3429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 Floor—Balanced Bilingu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3200400"/>
            <a:ext cx="3429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dle Floor—Less Balanced Bilingu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46483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4724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er floor–Limited Bilingu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2057400"/>
            <a:ext cx="198108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66320" y="2057400"/>
            <a:ext cx="175284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2438280"/>
            <a:ext cx="182880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447560" y="2438280"/>
            <a:ext cx="152388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2514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3124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5334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4191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4724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638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5638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400800" y="24379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705720" y="28951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85800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8660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315200" y="42667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54380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924680" y="5257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623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TERPRISE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s that students genuinely want to solve, problems that naturally entail reading, writing, and discussion. Finding the right enterprise is, in my view, a major goal of the teaching profession.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ass project that involves analyzing and writing about water in the community, rather than writing a book repor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Krashen, p. 23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19320" y="380880"/>
            <a:ext cx="6933960" cy="53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1 Lear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2 Lea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usually more cognitively develop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has a greater knowled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or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can learn and apply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easil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ually has more control over inp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an L1 as a resour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familiar with one or more other cultu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have a problem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itude/motiv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more likely to be inhibited or anxio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ed from: P. Richard-Amato. (1996).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aking it happen: Interaction in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anguage classroom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2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ge and Second Language Acqui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ink Abou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it better to learn a second language when one is young or when one is ol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itical Period Hypo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ritical Period Hypothesis states that an individual must acquire a language by a critical period or it will be difficult to acquire a language. This is in terms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rst Language Acquis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advantage to learning a language when younger is that the individual is more likely to acquire a native-like accen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ficiency: What is i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Think Abou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person proficient in a second language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you know a person is profici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ficienc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mmatical Compet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y of language cod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xic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d formation r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tence formation r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nunciation r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olinguistic Compet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y of appropriate language use n different contex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rse Compet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y of how to combine meanings and forms to create a text in different m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amples: telephone inquiry, argumentativ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ssays, recip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ategic Compet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y of verbal and non-verbal strategies to compensate for breakdowns in 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ficiency: How long does it tak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Think Abou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wanted to learn a second language, how long do you think it would take you to speak and understand that language? How long would it take you to read and wri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8:43:16Z</dcterms:created>
  <dc:creator>Osornio</dc:creator>
  <dc:description/>
  <dc:language>en-US</dc:language>
  <cp:lastModifiedBy>College of Education</cp:lastModifiedBy>
  <dcterms:modified xsi:type="dcterms:W3CDTF">2006-07-05T23:42:47Z</dcterms:modified>
  <cp:revision>10</cp:revision>
  <dc:subject/>
  <dc:title>Second Language Acquisition</dc:title>
</cp:coreProperties>
</file>